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move the slide</a:t>
            </a:r>
            <a:endParaRPr b="0" lang="en-US" sz="3000" spc="-1" strike="noStrike">
              <a:solidFill>
                <a:srgbClr val="3b3b3b"/>
              </a:solidFill>
              <a:latin typeface="Calibri"/>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681C-969E-4696-BBF5-C71D71EAC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29C6-7AC2-48FB-A66E-E4CDD1BF6C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AFB4A-3DE7-43BF-8B49-52615A5EA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80C43-CED8-49EC-BED7-524544CC6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304DC-5232-4B04-8B5A-1C83AFE0A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BA216-71DF-436A-BCCE-8CB646F8D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55559-BBDB-4176-84BE-6470195E1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4DB29-A409-4A3D-BA87-CA056AA08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0041F-9F21-4E52-9DC2-5A742A2D3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922F6-D6D5-4F9B-AE0B-E6E0F0F6F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3C9CB-6D84-43DB-88DF-1C92F11A7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0CB97-2ADB-4C3B-95B1-BEFC47743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4731C-BDBA-4D28-9B25-1F18A3A31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EED2E-B2C7-4219-BBC8-42C26A1F3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BDCC1-97F7-4D05-9255-9D6D66E2A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3FDA3-3D48-4A2C-9B47-44AFF9A79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F62D7-09DE-498B-A3BF-6134CC7B0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658A3-54FD-4B7F-878B-B158EA9F3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B4CAF-9C16-402E-9584-D127971B8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ABC60BD-735B-401B-A3ED-D2B2DE6CE1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E2565E-D0F0-4609-B330-77DFFC493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AFF380-C2C0-4B69-9344-D4E98EB9F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E0712C-DE48-469C-9955-E52CE82D48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331FF0-CFF2-42FF-BC97-5FE18DB25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465B6-BF95-4702-BC6C-8F25ED1AB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A0BF17-0E34-463D-A613-6B8ADB7C7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E715E7-2701-4A60-ACAC-A5D40AD52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87CD42-3903-432F-90D1-9A2C50985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93C97B-3C28-471C-9E1F-F6741DDDD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64D48A-BA44-444B-9A45-A55E40FC0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17EDA66-75D1-4EC4-BF3A-638A24271B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5520150-C4D0-4322-B62C-E521B772A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F30802-0F94-4236-9145-566FCBB46F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213EC-AE53-4632-BD8F-4686C3B49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8E2BA-7A2A-41DA-8C29-15FA437A6D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9F0A1-1469-4BF7-A3CB-2169A2DFF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26B6C4-D795-436C-A9E4-B12BCF4CB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26AA4-49C9-4E9C-815E-18EC24B88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F0BF9-E7A6-4AB4-BB00-E0A4CCF27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C095E-2AD2-4EE9-AB09-61648C173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76A10-CE6B-4C95-A6E0-8255C2454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94C95-EAAD-4C92-9CE0-CAA57003A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210AB5-0910-45F8-B087-0EAEFF062B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5BA38B-EB3F-4E23-922B-28D3C22DB7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831F7B-EA91-45CA-8526-AC6031C271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8AEBC4A-A10C-43A8-9DBF-EE6AF00A70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B4EE3-6508-489E-A1B7-53A7C0E50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77D81A8-7534-4C53-B4F6-A39CC004D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CB4A59-4C7E-4F6E-A94F-FA23969C9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7DF1A5-0FE2-469F-A2A6-C01B4FE3B3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CFBC32-C27C-40F6-857B-651A6BEE06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2F97AB-D1D7-4353-95FE-A815193D8D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AD026F-F224-4542-BE01-2C6F2C0CC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871343-DABA-4B16-B2D7-C113F80A5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81FED3-7BED-4BFB-83F3-A218F46DDA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D6BCFAD-1CF2-47A8-9F72-A072CF0061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FE1DD95-1430-4ED6-9CEE-A40E8882A2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3A037-0854-46A4-AF67-875A33983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4407FCB-4B0E-48A3-950A-FBD6DD48A0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73C1B17-A506-43D0-8B3C-CDA36F3D5D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C84EF46-656B-48E4-AFBC-696272C26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09C5059-0172-4974-9A00-369227D8DC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3616F1C-FDAA-405C-B915-814E13BAF4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FCD8574-3A65-4FCB-B94F-487A58EDEA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9A82594-0102-497C-8DF5-FF0025FF1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D1FFDED-A8C5-464A-B891-C37285AB0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B3E7CFF-DBFF-49B4-8ECB-4835B9DE4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2EF766-8A98-447B-89CE-B17D6AA9D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A98BB-460D-45C1-9D17-0E92BD19D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F5BC219-7B71-4D36-AA4D-F502FC4737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1C3F014-8672-4BF1-A4E3-7163694C9A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808B65B-AF89-4852-AED7-D980948FB5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75B30C7-5F3B-4900-A8F2-708195D006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6B5D3DF-444F-4C29-BCFA-98471A4960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3D9C58D-6670-4C25-967E-730AAB5D84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0E09C66-31C6-4B67-9CC9-708141DC72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8D838F-8EBC-419C-BF82-7BE7880EF8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EE25804-4428-4927-92E4-61D639A788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55FC49-D27E-4279-A6FC-55C6E8565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A259-3611-4895-AEA5-FABA86CA3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5B8CF5A-2BD8-4C93-B52B-158E7FAFA5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050686-4DF0-4846-B2EA-6B8E8E29E0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C3DE73-148D-47A0-8B39-264BDC623C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0657696-3595-4E01-8DF8-033A81F3F5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8BE658E-1BB0-4A63-AC5E-A4425181C1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A14B3-C86B-4434-B462-520E1AEC8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C385-5FE6-4FB2-9F4D-F5862F80EB5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ctangle 16"/>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7"/>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Rectangle 18"/>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Straight Connector 19"/>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traight Connector 20"/>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Straight Connector 23"/>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4"/>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Straight Connector 25"/>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Straight Connector 26"/>
          <p:cNvSpPr/>
          <p:nvPr/>
        </p:nvSpPr>
        <p:spPr>
          <a:xfrm>
            <a:off x="911376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Rectangle 27"/>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8"/>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Oval 29"/>
          <p:cNvSpPr/>
          <p:nvPr/>
        </p:nvSpPr>
        <p:spPr>
          <a:xfrm>
            <a:off x="1309680" y="4867200"/>
            <a:ext cx="64152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Oval 30"/>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Oval 31"/>
          <p:cNvSpPr/>
          <p:nvPr/>
        </p:nvSpPr>
        <p:spPr>
          <a:xfrm>
            <a:off x="1663560" y="578808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Oval 32"/>
          <p:cNvSpPr/>
          <p:nvPr/>
        </p:nvSpPr>
        <p:spPr>
          <a:xfrm>
            <a:off x="1905120" y="4495680"/>
            <a:ext cx="365040" cy="36540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0E45-1AE3-4F13-AF3C-1C7459547E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5135-F147-4671-BDB2-EFD2542E0F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16"/>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17"/>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18"/>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Straight Connector 19"/>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Straight Connector 20"/>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Straight Connector 23"/>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24"/>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Straight Connector 25"/>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Rectangle 26"/>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27"/>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28"/>
          <p:cNvSpPr/>
          <p:nvPr/>
        </p:nvSpPr>
        <p:spPr>
          <a:xfrm>
            <a:off x="1324080" y="4867200"/>
            <a:ext cx="64296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29"/>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30"/>
          <p:cNvSpPr/>
          <p:nvPr/>
        </p:nvSpPr>
        <p:spPr>
          <a:xfrm>
            <a:off x="1663560" y="579132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31"/>
          <p:cNvSpPr/>
          <p:nvPr/>
        </p:nvSpPr>
        <p:spPr>
          <a:xfrm>
            <a:off x="1879560" y="4479840"/>
            <a:ext cx="365040" cy="3650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Straight Connector 32"/>
          <p:cNvSpPr/>
          <p:nvPr/>
        </p:nvSpPr>
        <p:spPr>
          <a:xfrm>
            <a:off x="9097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33BF-90C2-446C-9C66-2096B5BC4A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0275-1364-491C-B313-1DBDF34809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Straight Connector 16"/>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Straight Connector 17"/>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Straight Connector 1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Rectangle 1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Oval 23"/>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6338-2221-4CAC-A12B-AC3F9F1B7C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Oval 16"/>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Rectangle 18"/>
          <p:cNvSpPr/>
          <p:nvPr/>
        </p:nvSpPr>
        <p:spPr>
          <a:xfrm>
            <a:off x="8839080" y="0"/>
            <a:ext cx="304920" cy="6858000"/>
          </a:xfrm>
          <a:prstGeom prst="rect">
            <a:avLst/>
          </a:prstGeom>
          <a:solidFill>
            <a:srgbClr val="bacd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Straight Connector 19"/>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Straight Connector 20"/>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Straight Connector 23"/>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B24F-9B58-458E-AE7A-26EFD47CDD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hyperlink" Target="http://online.rutgersprep.org/course/view.php?id==388" TargetMode="External"/><Relationship Id="rId2" Type="http://schemas.openxmlformats.org/officeDocument/2006/relationships/hyperlink" Target="http://lakeviewacademy.wikispaces.org/" TargetMode="External"/><Relationship Id="rId3" Type="http://schemas.openxmlformats.org/officeDocument/2006/relationships/hyperlink" Target="http://docs.moodle.org/en/mod/resource/html" TargetMode="External"/><Relationship Id="rId4" Type="http://schemas.openxmlformats.org/officeDocument/2006/relationships/hyperlink" Target="http://demo.moodle.org/" TargetMode="External"/><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moodle.lakeviewacademy.com/" TargetMode="External"/><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OODLES OF MOODLE</a:t>
            </a:r>
            <a:endParaRPr b="0" lang="en-US" sz="3000" spc="-1" strike="noStrike">
              <a:solidFill>
                <a:srgbClr val="3b3b3b"/>
              </a:solidFill>
              <a:latin typeface="Calibri"/>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b3b"/>
                </a:solidFill>
                <a:latin typeface="Calibri"/>
              </a:rPr>
              <a:t>debbie.temple@lakeview academy.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INSIDE THE FORUM TOOL</a:t>
            </a:r>
            <a:endParaRPr b="0" lang="en-US" sz="3000" spc="-1" strike="noStrike">
              <a:solidFill>
                <a:srgbClr val="3b3b3b"/>
              </a:solidFill>
              <a:latin typeface="Calibri"/>
            </a:endParaRPr>
          </a:p>
        </p:txBody>
      </p:sp>
      <p:sp>
        <p:nvSpPr>
          <p:cNvPr id="375" name="TextBox 2"/>
          <p:cNvSpPr/>
          <p:nvPr/>
        </p:nvSpPr>
        <p:spPr>
          <a:xfrm>
            <a:off x="685800" y="1752480"/>
            <a:ext cx="73915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Provides areas for group discussion; Can be restricted</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dvantage of 1:1 in a classroom; Having a </a:t>
            </a:r>
            <a:r>
              <a:rPr b="1" lang="en-US" sz="2400" spc="-1" strike="noStrike">
                <a:solidFill>
                  <a:srgbClr val="000000"/>
                </a:solidFill>
                <a:latin typeface="Calibri"/>
              </a:rPr>
              <a:t>	</a:t>
            </a:r>
            <a:r>
              <a:rPr b="1" lang="en-US" sz="2400" spc="-1" strike="noStrike">
                <a:solidFill>
                  <a:srgbClr val="000000"/>
                </a:solidFill>
                <a:latin typeface="Calibri"/>
              </a:rPr>
              <a:t>conversation without hearing a word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dditional Modules that people create and post</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udacity</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The Plugin-Namegon–allows students to record right into Moodle as an mp3 fil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15,000  School districts, Colleges, and Universities–not </a:t>
            </a:r>
            <a:r>
              <a:rPr b="1" lang="en-US" sz="2400" spc="-1" strike="noStrike">
                <a:solidFill>
                  <a:srgbClr val="000000"/>
                </a:solidFill>
                <a:latin typeface="Calibri"/>
              </a:rPr>
              <a:t>	</a:t>
            </a:r>
            <a:r>
              <a:rPr b="1" lang="en-US" sz="2400" spc="-1" strike="noStrike">
                <a:solidFill>
                  <a:srgbClr val="000000"/>
                </a:solidFill>
                <a:latin typeface="Calibri"/>
              </a:rPr>
              <a:t>just small schools across the country-using it at </a:t>
            </a:r>
            <a:r>
              <a:rPr b="1" lang="en-US" sz="2400" spc="-1" strike="noStrike">
                <a:solidFill>
                  <a:srgbClr val="000000"/>
                </a:solidFill>
                <a:latin typeface="Calibri"/>
              </a:rPr>
              <a:t>	</a:t>
            </a:r>
            <a:r>
              <a:rPr b="1" lang="en-US" sz="2400" spc="-1" strike="noStrike">
                <a:solidFill>
                  <a:srgbClr val="000000"/>
                </a:solidFill>
                <a:latin typeface="Calibri"/>
              </a:rPr>
              <a:t>UCLA</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Handles 172 langua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CHATS</a:t>
            </a:r>
            <a:r>
              <a:rPr b="0" lang="en-US" sz="3000" spc="-1" strike="noStrike">
                <a:solidFill>
                  <a:srgbClr val="3b3b3b"/>
                </a:solidFill>
                <a:latin typeface="Calibri"/>
              </a:rPr>
              <a:t> </a:t>
            </a:r>
            <a:endParaRPr b="0" lang="en-US" sz="3000" spc="-1" strike="noStrike">
              <a:solidFill>
                <a:srgbClr val="3b3b3b"/>
              </a:solidFill>
              <a:latin typeface="Calibri"/>
            </a:endParaRPr>
          </a:p>
        </p:txBody>
      </p:sp>
      <p:sp>
        <p:nvSpPr>
          <p:cNvPr id="377" name="TextBox 2"/>
          <p:cNvSpPr/>
          <p:nvPr/>
        </p:nvSpPr>
        <p:spPr>
          <a:xfrm>
            <a:off x="609480" y="182880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ll be in the chat room at 8:00 –HELP before a test</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tually it’s open all the time</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ve to be in to see the chat conversation</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get a transcript of who has been the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1"/>
          <p:cNvSpPr/>
          <p:nvPr/>
        </p:nvSpPr>
        <p:spPr>
          <a:xfrm>
            <a:off x="1066680" y="762120"/>
            <a:ext cx="7315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athering and reviewing Assignmen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assignment submissions are an easy way to track and grade student assignments</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s electronic submission</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dates added to the course calend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grading student assignments yourself, research indicates that using an online environment for student peer reviews increases student motivation and perform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
          <p:cNvSpPr/>
          <p:nvPr/>
        </p:nvSpPr>
        <p:spPr>
          <a:xfrm>
            <a:off x="1143000" y="762120"/>
            <a:ext cx="74674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Quizz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quizzes ca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graded instantaneously.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a great tool for giving students rapid feedback </a:t>
            </a:r>
            <a:r>
              <a:rPr b="0" lang="en-US" sz="2800" spc="-1" strike="noStrike">
                <a:solidFill>
                  <a:srgbClr val="000000"/>
                </a:solidFill>
                <a:latin typeface="Calibri"/>
              </a:rPr>
              <a:t>	</a:t>
            </a:r>
            <a:r>
              <a:rPr b="0" lang="en-US" sz="2800" spc="-1" strike="noStrike">
                <a:solidFill>
                  <a:srgbClr val="000000"/>
                </a:solidFill>
                <a:latin typeface="Calibri"/>
              </a:rPr>
              <a:t>on their perform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auge their comprehension of materials. </a:t>
            </a:r>
            <a:endParaRPr b="0" lang="en-US" sz="2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GLOSSARY MODULE</a:t>
            </a:r>
            <a:endParaRPr b="0" lang="en-US" sz="3000" spc="-1" strike="noStrike">
              <a:solidFill>
                <a:srgbClr val="3b3b3b"/>
              </a:solidFill>
              <a:latin typeface="Calibri"/>
            </a:endParaRPr>
          </a:p>
        </p:txBody>
      </p:sp>
      <p:sp>
        <p:nvSpPr>
          <p:cNvPr id="381" name="TextBox 2"/>
          <p:cNvSpPr/>
          <p:nvPr/>
        </p:nvSpPr>
        <p:spPr>
          <a:xfrm>
            <a:off x="457200" y="175248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e course dictionaries</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Entries can be linked to use in course</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Can be auto linked to word that appears highlighted</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Clicking gives definition anywhere in docume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2" name="TextBox 3"/>
          <p:cNvSpPr/>
          <p:nvPr/>
        </p:nvSpPr>
        <p:spPr>
          <a:xfrm>
            <a:off x="457200" y="3657600"/>
            <a:ext cx="7238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search by key words you establish</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set up restrictions on glossary addi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1"/>
          <p:cNvSpPr/>
          <p:nvPr/>
        </p:nvSpPr>
        <p:spPr>
          <a:xfrm>
            <a:off x="1600200" y="990720"/>
            <a:ext cx="5105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 Activitie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d a Wiki</a:t>
            </a: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d a Blog</a:t>
            </a: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d a Workshop</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
          <p:cNvSpPr/>
          <p:nvPr/>
        </p:nvSpPr>
        <p:spPr>
          <a:xfrm>
            <a:off x="1219320" y="762120"/>
            <a:ext cx="7391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idea itself is simpl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Open source simply means that users have access to the source code of the software.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You can see how the software works, tinker with it, share it with others, or use parts of it in your own produc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609480" y="380880"/>
            <a:ext cx="8534520" cy="615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osing a Text Pag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ext page is a simple plain-text page with little formatting. You can add paragraphs and whitespace, but that’s about 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xt pages are very easy to creat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 Click the “Turn editing on” button.</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 From the “Add a resource” menu select “Compose a text pag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 Enter a name for the text pag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The name you give the page will be displayed in the content </a:t>
            </a:r>
            <a:r>
              <a:rPr b="1" lang="en-US" sz="2200" spc="-1" strike="noStrike">
                <a:solidFill>
                  <a:srgbClr val="000000"/>
                </a:solidFill>
                <a:latin typeface="Calibri"/>
              </a:rPr>
              <a:t>	</a:t>
            </a:r>
            <a:r>
              <a:rPr b="1" lang="en-US" sz="2200" spc="-1" strike="noStrike">
                <a:solidFill>
                  <a:srgbClr val="000000"/>
                </a:solidFill>
                <a:latin typeface="Calibri"/>
              </a:rPr>
              <a:t>section on your course page. Students will access your page by </a:t>
            </a:r>
            <a:r>
              <a:rPr b="1" lang="en-US" sz="2200" spc="-1" strike="noStrike">
                <a:solidFill>
                  <a:srgbClr val="000000"/>
                </a:solidFill>
                <a:latin typeface="Calibri"/>
              </a:rPr>
              <a:t>	</a:t>
            </a:r>
            <a:r>
              <a:rPr b="1" lang="en-US" sz="2200" spc="-1" strike="noStrike">
                <a:solidFill>
                  <a:srgbClr val="000000"/>
                </a:solidFill>
                <a:latin typeface="Calibri"/>
              </a:rPr>
              <a:t>clicking on the name. Be sure to give the page a descriptive </a:t>
            </a:r>
            <a:r>
              <a:rPr b="1" lang="en-US" sz="2200" spc="-1" strike="noStrike">
                <a:solidFill>
                  <a:srgbClr val="000000"/>
                </a:solidFill>
                <a:latin typeface="Calibri"/>
              </a:rPr>
              <a:t>	</a:t>
            </a:r>
            <a:r>
              <a:rPr b="1" lang="en-US" sz="2200" spc="-1" strike="noStrike">
                <a:solidFill>
                  <a:srgbClr val="000000"/>
                </a:solidFill>
                <a:latin typeface="Calibri"/>
              </a:rPr>
              <a:t>name so students will know what they are accessing.</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4. Write a summary of the page in the Summary field.</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 Add your text in the Full Text field.</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  Scroll down to the bottom of the page and click “Save chang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IT’S ALL ABOUT THE HELP….</a:t>
            </a:r>
            <a:br>
              <a:rPr sz="3000"/>
            </a:br>
            <a:endParaRPr b="0" lang="en-US" sz="3000" spc="-1" strike="noStrike">
              <a:solidFill>
                <a:srgbClr val="3b3b3b"/>
              </a:solidFill>
              <a:latin typeface="Calibri"/>
            </a:endParaRPr>
          </a:p>
        </p:txBody>
      </p:sp>
      <p:sp>
        <p:nvSpPr>
          <p:cNvPr id="387" name="TextBox 2"/>
          <p:cNvSpPr/>
          <p:nvPr/>
        </p:nvSpPr>
        <p:spPr>
          <a:xfrm>
            <a:off x="1143000" y="1905120"/>
            <a:ext cx="647712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ogle It! … If you type in what you need and click search, it brings up the Moodle Help Blo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g in as a guest or joi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DETAILED HOW TO:</a:t>
            </a:r>
            <a:endParaRPr b="0" lang="en-US" sz="3000" spc="-1" strike="noStrike">
              <a:solidFill>
                <a:srgbClr val="3b3b3b"/>
              </a:solidFill>
              <a:latin typeface="Calibri"/>
            </a:endParaRPr>
          </a:p>
        </p:txBody>
      </p:sp>
      <p:sp>
        <p:nvSpPr>
          <p:cNvPr id="389" name="TextBox 2"/>
          <p:cNvSpPr/>
          <p:nvPr/>
        </p:nvSpPr>
        <p:spPr>
          <a:xfrm>
            <a:off x="685800" y="1981080"/>
            <a:ext cx="7620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onstration Video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1"/>
              </a:rPr>
              <a:t>http://online.rutgersprep.org/course/view.php?id==388</a:t>
            </a:r>
            <a:r>
              <a:rPr b="1" lang="en-US" sz="2400" spc="-1" strike="noStrike">
                <a:solidFill>
                  <a:srgbClr val="000000"/>
                </a:solidFill>
                <a:latin typeface="Calibri"/>
              </a:rPr>
              <a:t>  log in as gues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keview Wiki</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2"/>
              </a:rPr>
              <a:t>http://lakeviewacademy.wikispaces.org</a:t>
            </a:r>
            <a:r>
              <a:rPr b="1"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odle Home and Demonstration sit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3"/>
              </a:rPr>
              <a:t>http://docs.moodle.org/en/mod/resource/htm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4"/>
              </a:rPr>
              <a:t>http://demo.moodle.org</a:t>
            </a:r>
            <a:r>
              <a:rPr b="1"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SO WHY MOODLE?</a:t>
            </a:r>
            <a:endParaRPr b="0" lang="en-US" sz="3000" spc="-1" strike="noStrike">
              <a:solidFill>
                <a:srgbClr val="3b3b3b"/>
              </a:solidFill>
              <a:latin typeface="Calibri"/>
            </a:endParaRPr>
          </a:p>
        </p:txBody>
      </p:sp>
      <p:sp>
        <p:nvSpPr>
          <p:cNvPr id="361" name="Rectangle 2"/>
          <p:cNvSpPr/>
          <p:nvPr/>
        </p:nvSpPr>
        <p:spPr>
          <a:xfrm>
            <a:off x="228600" y="1219320"/>
            <a:ext cx="8458200" cy="5272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A Course Management System (CMS)-One-stop </a:t>
            </a:r>
            <a:r>
              <a:rPr b="0" lang="en-US" sz="2600" spc="-1" strike="noStrike">
                <a:solidFill>
                  <a:srgbClr val="000000"/>
                </a:solidFill>
                <a:latin typeface="Calibri"/>
              </a:rPr>
              <a:t>	</a:t>
            </a:r>
            <a:r>
              <a:rPr b="0" lang="en-US" sz="2600" spc="-1" strike="noStrike">
                <a:solidFill>
                  <a:srgbClr val="000000"/>
                </a:solidFill>
                <a:latin typeface="Calibri"/>
              </a:rPr>
              <a:t>shopping  </a:t>
            </a:r>
            <a:endParaRPr b="0" lang="en-US" sz="26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online headquarters for your class</a:t>
            </a:r>
            <a:endParaRPr b="0" lang="en-US" sz="26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ll resources and assignments in one place</a:t>
            </a:r>
            <a:endParaRPr b="0" lang="en-US" sz="26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ccessible from anywhere with internet connection</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reates an organized and predictable classroom</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ables more communication and collaboration</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ables a paperless classroom (or less paper, anyway!)</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nstantly improving</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ables use of a multitude of tools to enhance student </a:t>
            </a:r>
            <a:r>
              <a:rPr b="0" lang="en-US" sz="2600" spc="-1" strike="noStrike">
                <a:solidFill>
                  <a:srgbClr val="000000"/>
                </a:solidFill>
                <a:latin typeface="Calibri"/>
              </a:rPr>
              <a:t>	</a:t>
            </a:r>
            <a:r>
              <a:rPr b="0" lang="en-US" sz="2600" spc="-1" strike="noStrike">
                <a:solidFill>
                  <a:srgbClr val="000000"/>
                </a:solidFill>
                <a:latin typeface="Calibri"/>
              </a:rPr>
              <a:t>learning</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FREE, OPEN SOURCE SOFTWARE! </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2285640" y="3124080"/>
            <a:ext cx="6172200" cy="281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br>
              <a:rPr sz="2700"/>
            </a:br>
            <a:br>
              <a:rPr sz="2700"/>
            </a:br>
            <a:br>
              <a:rPr sz="2700"/>
            </a:br>
            <a:br>
              <a:rPr sz="2700"/>
            </a:br>
            <a:br>
              <a:rPr sz="2700"/>
            </a:br>
            <a:r>
              <a:rPr b="1" lang="en-US" sz="2700" spc="-1" strike="noStrike">
                <a:solidFill>
                  <a:srgbClr val="3b3b3b"/>
                </a:solidFill>
                <a:latin typeface="Calibri"/>
              </a:rPr>
              <a:t>WHAT IS A COURSE MANAGEMENT SYSTEM?</a:t>
            </a:r>
            <a:br>
              <a:rPr sz="2700"/>
            </a:br>
            <a:br>
              <a:rPr sz="2700"/>
            </a:br>
            <a:r>
              <a:rPr b="1" lang="en-US" sz="2400" spc="-1" strike="noStrike">
                <a:solidFill>
                  <a:srgbClr val="3b3b3b"/>
                </a:solidFill>
                <a:latin typeface="Calibri"/>
              </a:rPr>
              <a:t>CMSS ARE WEB APPLICATIONS THAT RUN ON A SERVER AND ARE ACCESSED BY USING A WEB BROWSER.</a:t>
            </a:r>
            <a:br>
              <a:rPr sz="2400"/>
            </a:br>
            <a:br>
              <a:rPr sz="2400"/>
            </a:br>
            <a:r>
              <a:rPr b="1" lang="en-US" sz="2400" spc="-1" strike="noStrike">
                <a:solidFill>
                  <a:srgbClr val="3b3b3b"/>
                </a:solidFill>
                <a:latin typeface="Calibri"/>
              </a:rPr>
              <a:t>CMSS GIVE EDUCATORS TOOLS TO CREATE A COURSE WEB SITE AND PROVIDE  ACCESS CONTROL SO ONLY ENROLLED STUDENTS CAN VIEW IT. </a:t>
            </a:r>
            <a:br>
              <a:rPr sz="2400"/>
            </a:br>
            <a:br>
              <a:rPr sz="2400"/>
            </a:br>
            <a:r>
              <a:rPr b="1" lang="en-US" sz="2400" spc="-1" strike="noStrike">
                <a:solidFill>
                  <a:srgbClr val="3b3b3b"/>
                </a:solidFill>
                <a:latin typeface="Calibri"/>
              </a:rPr>
              <a:t>CMSS ALSO OFFER A WIDE VARIETY OF TOOLS THAT CAN MAKE YOUR COURSE MORE EFFECTIVE. THEY PROVIDE AN EASY WAY TO UPLOAD AND SHARE MATERIALS, HOLD ONLINE DISCUSSIONS AND CHATS, GIVE QUIZZES AND SURVEYS, GATHER AND REVIEW ASSIGNMENTS, AND RECORD GRADES.</a:t>
            </a:r>
            <a:endParaRPr b="0" lang="en-US" sz="2400" spc="-1" strike="noStrike">
              <a:solidFill>
                <a:srgbClr val="3b3b3b"/>
              </a:solidFill>
              <a:latin typeface="Calibri"/>
            </a:endParaRPr>
          </a:p>
        </p:txBody>
      </p:sp>
      <p:sp>
        <p:nvSpPr>
          <p:cNvPr id="391"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
          <p:cNvSpPr/>
          <p:nvPr/>
        </p:nvSpPr>
        <p:spPr>
          <a:xfrm>
            <a:off x="609480" y="1066680"/>
            <a:ext cx="815364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ommercial CMS systems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a:t>
            </a:r>
            <a:r>
              <a:rPr b="1" lang="en-US" sz="3200" spc="-1" strike="noStrike">
                <a:solidFill>
                  <a:srgbClr val="000000"/>
                </a:solidFill>
                <a:latin typeface="Calibri"/>
              </a:rPr>
              <a:t>tool-centere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odle is </a:t>
            </a:r>
            <a:r>
              <a:rPr b="1" lang="en-US" sz="3200" spc="-1" strike="noStrike">
                <a:solidFill>
                  <a:srgbClr val="000000"/>
                </a:solidFill>
                <a:latin typeface="Calibri"/>
              </a:rPr>
              <a:t>learning-cente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COURSE PAGE SET UP</a:t>
            </a:r>
            <a:endParaRPr b="0" lang="en-US" sz="3000" spc="-1" strike="noStrike">
              <a:solidFill>
                <a:srgbClr val="3b3b3b"/>
              </a:solidFill>
              <a:latin typeface="Calibri"/>
            </a:endParaRPr>
          </a:p>
        </p:txBody>
      </p:sp>
      <p:sp>
        <p:nvSpPr>
          <p:cNvPr id="364" name="TextBox 2"/>
          <p:cNvSpPr/>
          <p:nvPr/>
        </p:nvSpPr>
        <p:spPr>
          <a:xfrm>
            <a:off x="533520" y="1600200"/>
            <a:ext cx="80010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Lakeview Teachers: Connie has set up most courses, you </a:t>
            </a:r>
            <a:r>
              <a:rPr b="1" lang="en-US" sz="2400" spc="-1" strike="noStrike">
                <a:solidFill>
                  <a:srgbClr val="000000"/>
                </a:solidFill>
                <a:latin typeface="Calibri"/>
              </a:rPr>
              <a:t>	</a:t>
            </a:r>
            <a:r>
              <a:rPr b="1" lang="en-US" sz="2400" spc="-1" strike="noStrike">
                <a:solidFill>
                  <a:srgbClr val="000000"/>
                </a:solidFill>
                <a:latin typeface="Calibri"/>
              </a:rPr>
              <a:t>probably already have a log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r server address 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1"/>
              </a:rPr>
              <a:t>http://moodle.lakeviewacademy.com</a:t>
            </a:r>
            <a:r>
              <a:rPr b="1"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f you need to create your own accou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Click the “Create new account” butt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Fill in the new account form by creating a username and </a:t>
            </a:r>
            <a:r>
              <a:rPr b="1" lang="en-US" sz="2400" spc="-1" strike="noStrike">
                <a:solidFill>
                  <a:srgbClr val="000000"/>
                </a:solidFill>
                <a:latin typeface="Calibri"/>
              </a:rPr>
              <a:t>	</a:t>
            </a:r>
            <a:r>
              <a:rPr b="1" lang="en-US" sz="2400" spc="-1" strike="noStrike">
                <a:solidFill>
                  <a:srgbClr val="000000"/>
                </a:solidFill>
                <a:latin typeface="Calibri"/>
              </a:rPr>
              <a:t>password for yourself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Enter a valid email addres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Click “Create my new accou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Within a few minutes, you should receive an emai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MOODLE RESOURCE MODULE</a:t>
            </a:r>
            <a:endParaRPr b="0" lang="en-US" sz="3000" spc="-1" strike="noStrike">
              <a:solidFill>
                <a:srgbClr val="3b3b3b"/>
              </a:solidFill>
              <a:latin typeface="Calibri"/>
            </a:endParaRPr>
          </a:p>
        </p:txBody>
      </p:sp>
      <p:sp>
        <p:nvSpPr>
          <p:cNvPr id="366" name="TextBox 3"/>
          <p:cNvSpPr/>
          <p:nvPr/>
        </p:nvSpPr>
        <p:spPr>
          <a:xfrm>
            <a:off x="457200" y="160020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ent: Uploading and Sharing Material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Moodle to easily publish content; you simply use a web form that stores your syllabus on the server.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ood Way to Begi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by uploading your syllabus, lecture notes, reading assignments, and articles for students to access whenever they wa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b3b3b"/>
                </a:solidFill>
                <a:latin typeface="Calibri"/>
              </a:rPr>
              <a:t>HOW MOODLE COURSE PAGES ARE ORGANIZED:</a:t>
            </a:r>
            <a:endParaRPr b="0" lang="en-US" sz="2700" spc="-1" strike="noStrike">
              <a:solidFill>
                <a:srgbClr val="3b3b3b"/>
              </a:solidFill>
              <a:latin typeface="Calibri"/>
            </a:endParaRPr>
          </a:p>
        </p:txBody>
      </p:sp>
      <p:sp>
        <p:nvSpPr>
          <p:cNvPr id="368" name="TextBox 3"/>
          <p:cNvSpPr/>
          <p:nvPr/>
        </p:nvSpPr>
        <p:spPr>
          <a:xfrm>
            <a:off x="304920" y="855720"/>
            <a:ext cx="7010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ound the sid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The Blocks which can Conta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SS fe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CNN.co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Calenda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Up coming even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Latest new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Course categori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n, the center section:</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ains the conte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Welcome To Computer Ap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Sub categori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Added foru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Embedded video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Link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Text do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
          <p:cNvPicPr/>
          <p:nvPr/>
        </p:nvPicPr>
        <p:blipFill>
          <a:blip r:embed="rId1"/>
          <a:stretch/>
        </p:blipFill>
        <p:spPr>
          <a:xfrm>
            <a:off x="1371600" y="1066680"/>
            <a:ext cx="5892840" cy="3505320"/>
          </a:xfrm>
          <a:prstGeom prst="rect">
            <a:avLst/>
          </a:prstGeom>
          <a:ln w="0">
            <a:noFill/>
          </a:ln>
        </p:spPr>
      </p:pic>
      <p:sp>
        <p:nvSpPr>
          <p:cNvPr id="370" name="Rectangle 3"/>
          <p:cNvSpPr/>
          <p:nvPr/>
        </p:nvSpPr>
        <p:spPr>
          <a:xfrm>
            <a:off x="1295280" y="4952880"/>
            <a:ext cx="67820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mpose a text page</a:t>
            </a:r>
            <a:endParaRPr b="0" lang="en-US" sz="36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mpose a web page</a:t>
            </a:r>
            <a:endParaRPr b="0" lang="en-US" sz="36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Link to a file or website</a:t>
            </a:r>
            <a:endParaRPr b="0" lang="en-US" sz="3600" spc="-1" strike="noStrike">
              <a:solidFill>
                <a:srgbClr val="000000"/>
              </a:solidFill>
              <a:latin typeface="Calibri"/>
            </a:endParaRPr>
          </a:p>
        </p:txBody>
      </p:sp>
      <p:sp>
        <p:nvSpPr>
          <p:cNvPr id="371" name="TextBox 4"/>
          <p:cNvSpPr/>
          <p:nvPr/>
        </p:nvSpPr>
        <p:spPr>
          <a:xfrm>
            <a:off x="304920" y="22860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dd A Resource</a:t>
            </a:r>
            <a:r>
              <a:rPr b="1"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
          <p:cNvSpPr/>
          <p:nvPr/>
        </p:nvSpPr>
        <p:spPr>
          <a:xfrm>
            <a:off x="762120" y="609480"/>
            <a:ext cx="7696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ol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Insert a label,” creates a label directly on your course </a:t>
            </a:r>
            <a:r>
              <a:rPr b="1" lang="en-US" sz="2400" spc="-1" strike="noStrike">
                <a:solidFill>
                  <a:srgbClr val="000000"/>
                </a:solidFill>
                <a:latin typeface="Calibri"/>
              </a:rPr>
              <a:t>	</a:t>
            </a:r>
            <a:r>
              <a:rPr b="1" lang="en-US" sz="2400" spc="-1" strike="noStrike">
                <a:solidFill>
                  <a:srgbClr val="000000"/>
                </a:solidFill>
                <a:latin typeface="Calibri"/>
              </a:rPr>
              <a:t>page. </a:t>
            </a:r>
            <a:endParaRPr b="0" lang="en-US" sz="2400" spc="-1" strike="noStrike">
              <a:solidFill>
                <a:srgbClr val="000000"/>
              </a:solidFill>
              <a:latin typeface="Calibri"/>
            </a:endParaRPr>
          </a:p>
          <a:p>
            <a:pPr>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Compose a text page” and “Compose a web page,” can be used to develop content directly in Moodle. </a:t>
            </a:r>
            <a:endParaRPr b="0" lang="en-US" sz="2400" spc="-1" strike="noStrike">
              <a:solidFill>
                <a:srgbClr val="000000"/>
              </a:solidFill>
              <a:latin typeface="Calibri"/>
            </a:endParaRPr>
          </a:p>
          <a:p>
            <a:pPr>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Link to a file or web site” and “Displa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 directory,” are used to manage content developed </a:t>
            </a:r>
            <a:r>
              <a:rPr b="1" lang="en-US" sz="2400" spc="-1" strike="noStrike">
                <a:solidFill>
                  <a:srgbClr val="000000"/>
                </a:solidFill>
                <a:latin typeface="Calibri"/>
              </a:rPr>
              <a:t>	</a:t>
            </a:r>
            <a:r>
              <a:rPr b="1" lang="en-US" sz="2400" spc="-1" strike="noStrike">
                <a:solidFill>
                  <a:srgbClr val="000000"/>
                </a:solidFill>
                <a:latin typeface="Calibri"/>
              </a:rPr>
              <a:t>in other programs, such as Word or PowerPoint or  </a:t>
            </a:r>
            <a:r>
              <a:rPr b="1" lang="en-US" sz="2400" spc="-1" strike="noStrike">
                <a:solidFill>
                  <a:srgbClr val="000000"/>
                </a:solidFill>
                <a:latin typeface="Calibri"/>
              </a:rPr>
              <a:t>	</a:t>
            </a:r>
            <a:r>
              <a:rPr b="1" lang="en-US" sz="2400" spc="-1" strike="noStrike">
                <a:solidFill>
                  <a:srgbClr val="000000"/>
                </a:solidFill>
                <a:latin typeface="Calibri"/>
              </a:rPr>
              <a:t>other web sites and take advantage of the rich </a:t>
            </a:r>
            <a:r>
              <a:rPr b="1" lang="en-US" sz="2400" spc="-1" strike="noStrike">
                <a:solidFill>
                  <a:srgbClr val="000000"/>
                </a:solidFill>
                <a:latin typeface="Calibri"/>
              </a:rPr>
              <a:t>	</a:t>
            </a:r>
            <a:r>
              <a:rPr b="1" lang="en-US" sz="2400" spc="-1" strike="noStrike">
                <a:solidFill>
                  <a:srgbClr val="000000"/>
                </a:solidFill>
                <a:latin typeface="Calibri"/>
              </a:rPr>
              <a:t>library </a:t>
            </a:r>
            <a:r>
              <a:rPr b="1" lang="en-US" sz="2400" spc="-1" strike="noStrike">
                <a:solidFill>
                  <a:srgbClr val="000000"/>
                </a:solidFill>
                <a:latin typeface="Calibri"/>
              </a:rPr>
              <a:t>	</a:t>
            </a:r>
            <a:r>
              <a:rPr b="1" lang="en-US" sz="2400" spc="-1" strike="noStrike">
                <a:solidFill>
                  <a:srgbClr val="000000"/>
                </a:solidFill>
                <a:latin typeface="Calibri"/>
              </a:rPr>
              <a:t>of information available on the Web.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dd an IMS Content Package” enables you to add </a:t>
            </a:r>
            <a:r>
              <a:rPr b="1" lang="en-US" sz="2400" spc="-1" strike="noStrike">
                <a:solidFill>
                  <a:srgbClr val="000000"/>
                </a:solidFill>
                <a:latin typeface="Calibri"/>
              </a:rPr>
              <a:t>	</a:t>
            </a:r>
            <a:r>
              <a:rPr b="1" lang="en-US" sz="2400" spc="-1" strike="noStrike">
                <a:solidFill>
                  <a:srgbClr val="000000"/>
                </a:solidFill>
                <a:latin typeface="Calibri"/>
              </a:rPr>
              <a:t>prepackaged content from sites around the Web.</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gin by creating a simple label for your course p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
          <p:cNvSpPr/>
          <p:nvPr/>
        </p:nvSpPr>
        <p:spPr>
          <a:xfrm>
            <a:off x="762120" y="457200"/>
            <a:ext cx="784836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rums and Cha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forums and chats provide:</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eans of communication outside of classroom meetings</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re time for students to generate their responses and can lead to more thoughtful discussions. </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way to quickly and easily communicate with remote students. </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project discussions between groups of students </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last-minute questions the day before an ex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6:44:39Z</dcterms:created>
  <dc:creator>Admin</dc:creator>
  <dc:description/>
  <dc:language>en-US</dc:language>
  <cp:lastModifiedBy>Admin</cp:lastModifiedBy>
  <dcterms:modified xsi:type="dcterms:W3CDTF">2009-07-28T12:56:22Z</dcterms:modified>
  <cp:revision>47</cp:revision>
  <dc:subject/>
  <dc:title>What Is a Course Management System? CMSs are web applications, meaning that they run on a server and are accessed by using a web browser. Your Moodle server is probably located in your university or department, but it can be anywhere in the world. You and your students can access the system from any place with an Internet connection. At their most basic, CMSs give educators tools to create a course web site and provide access control so only enrolled students can view it. CMSs also offer a wide variety of tools that can make your course more effective. They provide an easy way to upload and share materials, hold online discussions and chats, give quizzes and surveys, gather and review assignments, and record grades.</dc:title>
</cp:coreProperties>
</file>